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9.wmf" ContentType="image/x-wmf"/>
  <Override PartName="/ppt/media/image34.wmf" ContentType="image/x-wmf"/>
  <Override PartName="/ppt/media/image10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6.jpeg" ContentType="image/jpeg"/>
  <Override PartName="/ppt/media/image13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24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6.png" ContentType="image/png"/>
  <Override PartName="/ppt/media/image33.gif" ContentType="image/gif"/>
  <Override PartName="/ppt/media/image3.gif" ContentType="image/gif"/>
  <Override PartName="/ppt/media/image32.gif" ContentType="image/gif"/>
  <Override PartName="/ppt/media/image19.jpeg" ContentType="image/jpeg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74DA-DF81-4766-8E61-9A3FD07D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E94-4F67-4554-9DE2-6273FE99E1C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3496-048C-4DAB-B7A2-722558750F3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CEC-005D-42F4-B954-3DC6B693307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DA9-F1C9-4892-8AF3-65D3076AB54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4F76-F299-4E9A-B340-C4A05BADFA3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AB1-62F9-464F-980F-5184E2C24D9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500C-29AF-4C6C-ABE9-014651CEB73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E0F3-7620-450C-B230-04FAB0174E7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488-6A60-4603-8FA9-7D11CC91CC8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926D-4D91-46DB-890E-D1FF2B2E13C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9B1-6CF9-4E2A-AF47-0AC7E0F0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C4F-D4C4-4D0E-A9F2-0D35BC3D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392-6341-4049-A33C-6506D816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AFD-0034-444D-95EB-1ACA96A2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27A1-54AC-4F62-915F-2775BD7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7466-EBE1-460C-AD6F-7321616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890F-1D89-43D0-8FFF-3B34DF43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854-40C0-4F95-B5B4-42658284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5E3A-9488-41B3-A830-8A3B8A0B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C260-88EF-412D-977A-7DC0E37D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5742-7690-4DA4-8DCC-F81EB75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991-6FE5-4EB4-A8E9-83F1180D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9DAC-4BF3-411F-B696-E802170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496-5FAD-4E18-B966-CB556B8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9F9C-80BB-4A66-9B8E-D733B90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956C-D5D1-42D9-8C20-5595B53D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45A-06DE-4D30-8E64-243B7EFF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616-F8FE-49B8-BCB9-A8C48EA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09D-77DE-4D0C-90BB-8FD40EA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A37-422E-47F5-849D-8CFB2693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C4D-E2AE-4207-B4D1-AAF2E4D2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A40-FBE7-40A8-B827-62F6B40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CEC-EFB1-45C2-8196-6CB3293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CD4-6A2A-4E42-83DF-573FC51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BBC-0E74-4442-99CF-6CAB5284A1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0FF-017E-4E69-B626-93BA832BE4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E:\Powerpoint pics\Powerpoint pics\MVC-014V.M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8GO368/sr=1-9/qid=1145025920/ref=sr_1_9/102-6435020-5692120?%5Fencoding=UTF8&amp;s=office-products&amp;v=glanc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amazon.com/exec/obidos/tg/detail/-/B00004UBGU/sr=1-14/qid=1145025961/ref=sr_1_14/102-6435020-5692120?%5Fencoding=UTF8&amp;s=office-products&amp;v=glance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Your Key To Success in Scienc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2971800"/>
            <a:ext cx="3429000" cy="3886200"/>
            <a:chOff x="0" y="2971800"/>
            <a:chExt cx="3429000" cy="3886200"/>
          </a:xfrm>
        </p:grpSpPr>
        <p:pic>
          <p:nvPicPr>
            <p:cNvPr id="104" name="Picture 5" descr="j0199367[1]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342900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6"/>
            <p:cNvSpPr txBox="1"/>
            <p:nvPr/>
          </p:nvSpPr>
          <p:spPr>
            <a:xfrm rot="20652000">
              <a:off x="1592280" y="5482440"/>
              <a:ext cx="972360" cy="49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06" name="Picture 7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1224720" y="4406760"/>
              <a:ext cx="1126800" cy="11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AutoShape 11"/>
          <p:cNvSpPr/>
          <p:nvPr/>
        </p:nvSpPr>
        <p:spPr>
          <a:xfrm>
            <a:off x="685800" y="990720"/>
            <a:ext cx="7315200" cy="19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1280" y="1269360"/>
            <a:ext cx="8205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TERACTIVE SCIENC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B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15" descr="MMj02841120000[1]"/>
          <p:cNvPicPr/>
          <p:nvPr/>
        </p:nvPicPr>
        <p:blipFill>
          <a:blip r:embed="rId3"/>
          <a:stretch/>
        </p:blipFill>
        <p:spPr>
          <a:xfrm>
            <a:off x="3352680" y="3200400"/>
            <a:ext cx="1600200" cy="1273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3657600" y="5562720"/>
            <a:ext cx="548640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esented by Ms. Cloutier-Sim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rtions adopted from E. Dubose, A. Holder &amp; D. Saun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3657600" y="5562720"/>
            <a:ext cx="5486400" cy="91440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ience Warm-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ings/Illust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ems, Rap So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toons/Co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Analys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 Your Pa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71" name="WordArt 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s of Left Side Assignment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AutoShape 8"/>
          <p:cNvSpPr/>
          <p:nvPr/>
        </p:nvSpPr>
        <p:spPr>
          <a:xfrm rot="622800">
            <a:off x="4645080" y="2461680"/>
            <a:ext cx="4457520" cy="4170600"/>
          </a:xfrm>
          <a:prstGeom prst="irregularSeal1">
            <a:avLst/>
          </a:prstGeom>
          <a:solidFill>
            <a:srgbClr val="cc99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OPPORTUNIT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EATIV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 WA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nside the earth"/>
          <p:cNvPicPr/>
          <p:nvPr/>
        </p:nvPicPr>
        <p:blipFill>
          <a:blip r:embed="rId1"/>
          <a:stretch/>
        </p:blipFill>
        <p:spPr>
          <a:xfrm>
            <a:off x="4800600" y="2209680"/>
            <a:ext cx="4343400" cy="464832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grpSp>
        <p:nvGrpSpPr>
          <p:cNvPr id="175" name="Group 5"/>
          <p:cNvGrpSpPr/>
          <p:nvPr/>
        </p:nvGrpSpPr>
        <p:grpSpPr>
          <a:xfrm>
            <a:off x="685800" y="762120"/>
            <a:ext cx="8457840" cy="1294920"/>
            <a:chOff x="685800" y="762120"/>
            <a:chExt cx="8457840" cy="1294920"/>
          </a:xfrm>
        </p:grpSpPr>
        <p:sp>
          <p:nvSpPr>
            <p:cNvPr id="176" name="WordArt 6"/>
            <p:cNvSpPr txBox="1"/>
            <p:nvPr/>
          </p:nvSpPr>
          <p:spPr>
            <a:xfrm>
              <a:off x="1234080" y="923760"/>
              <a:ext cx="783108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DRAWINGS/ILLUSTRATION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77" name="AutoShape 7"/>
            <p:cNvSpPr/>
            <p:nvPr/>
          </p:nvSpPr>
          <p:spPr>
            <a:xfrm>
              <a:off x="685800" y="762120"/>
              <a:ext cx="845784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8" name="Picture 9" descr="0130"/>
          <p:cNvPicPr/>
          <p:nvPr/>
        </p:nvPicPr>
        <p:blipFill>
          <a:blip r:embed="rId2"/>
          <a:stretch/>
        </p:blipFill>
        <p:spPr>
          <a:xfrm>
            <a:off x="0" y="2209680"/>
            <a:ext cx="4800600" cy="464832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5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80" name="WordArt 6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FOLDABL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82" name="Picture 12" descr="MVC-009S"/>
          <p:cNvPicPr/>
          <p:nvPr/>
        </p:nvPicPr>
        <p:blipFill>
          <a:blip r:embed="rId1"/>
          <a:stretch/>
        </p:blipFill>
        <p:spPr>
          <a:xfrm>
            <a:off x="-2666880" y="2286000"/>
            <a:ext cx="7315200" cy="4572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183" name="Picture 14" descr="MVC-006S"/>
          <p:cNvPicPr/>
          <p:nvPr/>
        </p:nvPicPr>
        <p:blipFill>
          <a:blip r:embed="rId2"/>
          <a:stretch/>
        </p:blipFill>
        <p:spPr>
          <a:xfrm>
            <a:off x="4648320" y="2286000"/>
            <a:ext cx="4495680" cy="4572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MVC-009S"/>
          <p:cNvPicPr/>
          <p:nvPr/>
        </p:nvPicPr>
        <p:blipFill>
          <a:blip r:embed="rId1"/>
          <a:stretch/>
        </p:blipFill>
        <p:spPr>
          <a:xfrm>
            <a:off x="0" y="2286000"/>
            <a:ext cx="452772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185" name="Picture 9" descr="MVC-004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grpSp>
        <p:nvGrpSpPr>
          <p:cNvPr id="186" name="Group 12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87" name="WordArt 13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FOLDABL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88" name="AutoShape 14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MVC-005S"/>
          <p:cNvPicPr/>
          <p:nvPr/>
        </p:nvPicPr>
        <p:blipFill>
          <a:blip r:embed="rId1"/>
          <a:stretch/>
        </p:blipFill>
        <p:spPr>
          <a:xfrm>
            <a:off x="0" y="2286000"/>
            <a:ext cx="471168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7" descr="CIMG0264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458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91" name="Group 10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92" name="WordArt 11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GRAPHIC ORGANIZER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93" name="AutoShape 12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120" y="2361960"/>
            <a:ext cx="7086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longs to me and should only contai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formation given or “input” from Ms. Cloutier-Sim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Nothing else should be placed on this page!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tains 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epad 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will contain all 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ESTABLE materi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62120" y="5989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Odd Pages = 1,3,5,7..YOU KNOW I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97" name="WordArt 8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IGHT SIDE: MY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9" name="Picture 10" descr="MCj01993670000[1]"/>
          <p:cNvPicPr/>
          <p:nvPr/>
        </p:nvPicPr>
        <p:blipFill>
          <a:blip r:embed="rId1"/>
          <a:stretch/>
        </p:blipFill>
        <p:spPr>
          <a:xfrm>
            <a:off x="533520" y="2514600"/>
            <a:ext cx="155736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3886200" cy="60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side of the notebook contains information given to you by Ms. Cloutier-Simons. This is the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ESSENTIAL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formation that will DEFINITELY be on a quiz or test.  Nothing else should go on this side.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3" descr="mso55677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5530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5"/>
          <p:cNvGrpSpPr/>
          <p:nvPr/>
        </p:nvGrpSpPr>
        <p:grpSpPr>
          <a:xfrm>
            <a:off x="0" y="0"/>
            <a:ext cx="3962520" cy="685800"/>
            <a:chOff x="0" y="0"/>
            <a:chExt cx="3962520" cy="685800"/>
          </a:xfrm>
        </p:grpSpPr>
        <p:sp>
          <p:nvSpPr>
            <p:cNvPr id="203" name="WordArt 6"/>
            <p:cNvSpPr txBox="1"/>
            <p:nvPr/>
          </p:nvSpPr>
          <p:spPr>
            <a:xfrm>
              <a:off x="256680" y="85320"/>
              <a:ext cx="3668760" cy="49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IGHT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0" y="0"/>
              <a:ext cx="3962520" cy="68580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s f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 guided Powerpoint no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ie/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ticle R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cabulary wo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Gu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07" name="WordArt 7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08" name="AutoShape 8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SAVE0020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4876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MVC-008S"/>
          <p:cNvPicPr/>
          <p:nvPr/>
        </p:nvPicPr>
        <p:blipFill>
          <a:blip r:embed="rId2"/>
          <a:stretch/>
        </p:blipFill>
        <p:spPr>
          <a:xfrm>
            <a:off x="762120" y="1981080"/>
            <a:ext cx="426708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11" name="Group 12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2" name="WordArt 13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13" name="AutoShape 14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VC-003S"/>
          <p:cNvPicPr/>
          <p:nvPr/>
        </p:nvPicPr>
        <p:blipFill>
          <a:blip r:embed="rId1"/>
          <a:stretch/>
        </p:blipFill>
        <p:spPr>
          <a:xfrm>
            <a:off x="2514600" y="2286000"/>
            <a:ext cx="510552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grpSp>
        <p:nvGrpSpPr>
          <p:cNvPr id="215" name="Group 7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6" name="WordArt 8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17" name="AutoShape 9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380880" y="1905120"/>
            <a:ext cx="4648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 can't find my . . .  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otes, homework, old quizzes . . .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219320" y="525780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3366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I was absent last week, did I miss anything?</a:t>
            </a:r>
            <a:endParaRPr b="0" lang="en-US" sz="1800" spc="1" strike="noStrike">
              <a:ln w="25560">
                <a:solidFill>
                  <a:srgbClr val="003366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5029200" y="2362320"/>
            <a:ext cx="3753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can't remember what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e did in class yesterday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3352680" y="3657600"/>
            <a:ext cx="3505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'm sure its in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locker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book bag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room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1219320" y="838080"/>
            <a:ext cx="76197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Have you ever heard yourself say . </a:t>
            </a:r>
            <a:endParaRPr b="1" lang="en-US" sz="1800" spc="1" strike="noStrike">
              <a:ln w="31680">
                <a:solidFill>
                  <a:srgbClr val="003366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5800" y="762120"/>
            <a:ext cx="8229600" cy="121896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9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hat Students Are Saying About ISN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20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like my own textbook!” - L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know that if I open it up to a blank page then I am missing something important from class. I want to know what I missed and can check Ms. Simons’ notebook.” - K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like having just ONE thing.” –G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like using my ISN because it keeps everything organized and in the same place. All I have to do is take out my notebook and check my table of contents to find where I put a worksheet or class notes. ISNS also allow students to be creative and color in diagrams and drawings.”    -A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BIN684050 Colored Pencils, 3.3mm Lead, 50 Assorted Colors">
            <a:hlinkClick r:id="rId1"/>
          </p:cNvPr>
          <p:cNvPicPr/>
          <p:nvPr/>
        </p:nvPicPr>
        <p:blipFill>
          <a:blip r:embed="rId2"/>
          <a:stretch/>
        </p:blipFill>
        <p:spPr>
          <a:xfrm rot="456000">
            <a:off x="7238520" y="4343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rayola Blunt Tip Scisso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895480"/>
            <a:ext cx="1523880" cy="801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743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41972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Sciss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85800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colored penci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8" descr="j0295145[1]"/>
          <p:cNvPicPr/>
          <p:nvPr/>
        </p:nvPicPr>
        <p:blipFill>
          <a:blip r:embed="rId5"/>
          <a:stretch/>
        </p:blipFill>
        <p:spPr>
          <a:xfrm>
            <a:off x="4419720" y="4343400"/>
            <a:ext cx="1295280" cy="17938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3657600" y="3962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Erasable pens   &amp; penci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124080" y="6216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 MARKERS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Picture 12" descr="spiral notebook"/>
          <p:cNvPicPr/>
          <p:nvPr/>
        </p:nvPicPr>
        <p:blipFill>
          <a:blip r:embed="rId6"/>
          <a:stretch/>
        </p:blipFill>
        <p:spPr>
          <a:xfrm>
            <a:off x="914400" y="2362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3886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1- SUBJECT Spiral Noteboo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34" name="WordArt 1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Science Notebook Suppli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35" name="AutoShape 1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36" name="Picture 34" descr=""/>
          <p:cNvPicPr/>
          <p:nvPr/>
        </p:nvPicPr>
        <p:blipFill>
          <a:blip r:embed="rId7"/>
          <a:stretch/>
        </p:blipFill>
        <p:spPr>
          <a:xfrm>
            <a:off x="7924680" y="2971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5"/>
          <p:cNvSpPr/>
          <p:nvPr/>
        </p:nvSpPr>
        <p:spPr>
          <a:xfrm>
            <a:off x="7010280" y="2286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Glue stick or ta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36" descr="MCj04325850000[1]"/>
          <p:cNvPicPr/>
          <p:nvPr/>
        </p:nvPicPr>
        <p:blipFill>
          <a:blip r:embed="rId8"/>
          <a:stretch/>
        </p:blipFill>
        <p:spPr>
          <a:xfrm>
            <a:off x="121932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7"/>
          <p:cNvSpPr/>
          <p:nvPr/>
        </p:nvSpPr>
        <p:spPr>
          <a:xfrm>
            <a:off x="83808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9"/>
          <a:stretch/>
        </p:blipFill>
        <p:spPr>
          <a:xfrm>
            <a:off x="6972480" y="3105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name of the cours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Earth 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word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teractive Science Notebo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class period that you have scien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G Period, for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school yea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014-201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teac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s. Cloutier-Sim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nam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self explanat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44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Getting Started: Step 1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Group 14"/>
          <p:cNvGrpSpPr/>
          <p:nvPr/>
        </p:nvGrpSpPr>
        <p:grpSpPr>
          <a:xfrm>
            <a:off x="5562720" y="1905120"/>
            <a:ext cx="3581280" cy="4267080"/>
            <a:chOff x="5562720" y="1905120"/>
            <a:chExt cx="3581280" cy="4267080"/>
          </a:xfrm>
        </p:grpSpPr>
        <p:pic>
          <p:nvPicPr>
            <p:cNvPr id="247" name="Picture 10" descr="j0199367[1]"/>
            <p:cNvPicPr/>
            <p:nvPr/>
          </p:nvPicPr>
          <p:blipFill>
            <a:blip r:embed="rId1"/>
            <a:stretch/>
          </p:blipFill>
          <p:spPr>
            <a:xfrm>
              <a:off x="5562720" y="1905120"/>
              <a:ext cx="3581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WordArt 11"/>
            <p:cNvSpPr txBox="1"/>
            <p:nvPr/>
          </p:nvSpPr>
          <p:spPr>
            <a:xfrm rot="20652000">
              <a:off x="7225920" y="4727160"/>
              <a:ext cx="1015200" cy="54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 rot="20602800">
              <a:off x="6461280" y="2941200"/>
              <a:ext cx="1346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My Nam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My Grad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50" name="Picture 13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6841800" y="3545640"/>
              <a:ext cx="1176840" cy="1218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2" name="Picture 5" descr="j0199367[1]"/>
          <p:cNvPicPr/>
          <p:nvPr/>
        </p:nvPicPr>
        <p:blipFill>
          <a:blip r:embed="rId1"/>
          <a:stretch/>
        </p:blipFill>
        <p:spPr>
          <a:xfrm>
            <a:off x="304920" y="-152280"/>
            <a:ext cx="815328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1"/>
          <p:cNvSpPr/>
          <p:nvPr/>
        </p:nvSpPr>
        <p:spPr>
          <a:xfrm rot="20703000">
            <a:off x="2514600" y="1371240"/>
            <a:ext cx="2728800" cy="12906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E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20703000">
            <a:off x="1218960" y="68544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ARTH 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 rot="20703000">
            <a:off x="3590640" y="4622400"/>
            <a:ext cx="3427200" cy="13003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R Perio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s. Cloutier-Sim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4-20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16" descr="MCj03398780000[1]"/>
          <p:cNvPicPr/>
          <p:nvPr/>
        </p:nvPicPr>
        <p:blipFill>
          <a:blip r:embed="rId2"/>
          <a:stretch/>
        </p:blipFill>
        <p:spPr>
          <a:xfrm>
            <a:off x="4267080" y="2895480"/>
            <a:ext cx="671760" cy="1371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MMj03033540000[1]"/>
          <p:cNvPicPr/>
          <p:nvPr/>
        </p:nvPicPr>
        <p:blipFill>
          <a:blip r:embed="rId3"/>
          <a:stretch/>
        </p:blipFill>
        <p:spPr>
          <a:xfrm rot="19669800">
            <a:off x="2895120" y="342900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MMj02841110000[1]"/>
          <p:cNvPicPr/>
          <p:nvPr/>
        </p:nvPicPr>
        <p:blipFill>
          <a:blip r:embed="rId4"/>
          <a:stretch/>
        </p:blipFill>
        <p:spPr>
          <a:xfrm>
            <a:off x="5029200" y="2819520"/>
            <a:ext cx="137160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IPPED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pages or torn corn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ODL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doesn’t relate to 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ebook should only be used f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IENCE CLASS ON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TE AND NUMB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ach 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ntries must go into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LORFUL &amp; LO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YOUR NOTEB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0" name="Picture 10" descr="MMAG00462_0000[1]"/>
          <p:cNvPicPr/>
          <p:nvPr/>
        </p:nvPicPr>
        <p:blipFill>
          <a:blip r:embed="rId1"/>
          <a:stretch/>
        </p:blipFill>
        <p:spPr>
          <a:xfrm>
            <a:off x="457200" y="762120"/>
            <a:ext cx="1038240" cy="98100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62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NOTEBOOK RULES..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64" name="Picture 14" descr="MMj03566050000[1]"/>
          <p:cNvPicPr/>
          <p:nvPr/>
        </p:nvPicPr>
        <p:blipFill>
          <a:blip r:embed="rId2"/>
          <a:stretch/>
        </p:blipFill>
        <p:spPr>
          <a:xfrm>
            <a:off x="4191120" y="5486400"/>
            <a:ext cx="809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6"/>
          <p:cNvGrpSpPr/>
          <p:nvPr/>
        </p:nvGrpSpPr>
        <p:grpSpPr>
          <a:xfrm>
            <a:off x="685800" y="2514600"/>
            <a:ext cx="4191120" cy="4343400"/>
            <a:chOff x="685800" y="2514600"/>
            <a:chExt cx="4191120" cy="4343400"/>
          </a:xfrm>
        </p:grpSpPr>
        <p:pic>
          <p:nvPicPr>
            <p:cNvPr id="266" name="Picture 7" descr="j0199367[1]"/>
            <p:cNvPicPr/>
            <p:nvPr/>
          </p:nvPicPr>
          <p:blipFill>
            <a:blip r:embed="rId1"/>
            <a:stretch/>
          </p:blipFill>
          <p:spPr>
            <a:xfrm>
              <a:off x="685800" y="2514600"/>
              <a:ext cx="41911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WordArt 8"/>
            <p:cNvSpPr txBox="1"/>
            <p:nvPr/>
          </p:nvSpPr>
          <p:spPr>
            <a:xfrm rot="20652000">
              <a:off x="2631960" y="5320800"/>
              <a:ext cx="11887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68" name="Picture 9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2183040" y="4117680"/>
              <a:ext cx="1377000" cy="124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11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70" name="WordArt 12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E ARE READY!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71" name="AutoShape 13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2" name="Picture 19" descr="MCj03891760000[1]"/>
          <p:cNvPicPr/>
          <p:nvPr/>
        </p:nvPicPr>
        <p:blipFill>
          <a:blip r:embed="rId3"/>
          <a:stretch/>
        </p:blipFill>
        <p:spPr>
          <a:xfrm>
            <a:off x="6188040" y="3790800"/>
            <a:ext cx="295596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3"/>
          <p:cNvSpPr txBox="1"/>
          <p:nvPr/>
        </p:nvSpPr>
        <p:spPr>
          <a:xfrm>
            <a:off x="3657600" y="2590920"/>
            <a:ext cx="5105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terac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eboo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20" name="WordArt 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ell Here's Your Answer..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21" name="AutoShape 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838080" y="2514600"/>
            <a:ext cx="2971800" cy="3352680"/>
            <a:chOff x="838080" y="2514600"/>
            <a:chExt cx="2971800" cy="3352680"/>
          </a:xfrm>
        </p:grpSpPr>
        <p:pic>
          <p:nvPicPr>
            <p:cNvPr id="123" name="Picture 10" descr="j0199367[1]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29718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11"/>
            <p:cNvSpPr txBox="1"/>
            <p:nvPr/>
          </p:nvSpPr>
          <p:spPr>
            <a:xfrm rot="20652000">
              <a:off x="2217960" y="4680360"/>
              <a:ext cx="842760" cy="42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25" name="Picture 12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1899720" y="3752280"/>
              <a:ext cx="976320" cy="957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2514600"/>
            <a:ext cx="2438280" cy="2819520"/>
            <a:chOff x="0" y="2514600"/>
            <a:chExt cx="2438280" cy="2819520"/>
          </a:xfrm>
        </p:grpSpPr>
        <p:pic>
          <p:nvPicPr>
            <p:cNvPr id="127" name="Picture 3" descr="j0199367[1]"/>
            <p:cNvPicPr/>
            <p:nvPr/>
          </p:nvPicPr>
          <p:blipFill>
            <a:blip r:embed="rId1"/>
            <a:stretch/>
          </p:blipFill>
          <p:spPr>
            <a:xfrm>
              <a:off x="0" y="2514600"/>
              <a:ext cx="24382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 rot="20652000">
              <a:off x="1131840" y="4336200"/>
              <a:ext cx="691560" cy="35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29" name="Picture 5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870840" y="3555360"/>
              <a:ext cx="80100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14240" y="23623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interactive notebook (ISN)  your own personalized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IARY of learning about sci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portfolio of your work in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E convenient spo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is is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reat for studying for upcoming quizzes &amp;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great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ORGANIZATIONAL too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hat  gives you permission to be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LAYFUL AND CREATIV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your responses without "messing up" your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lows you to be like a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EAL SCIENT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32" name="WordArt 10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hat is An Interactive Notebook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3" descr="Thomas Edison"/>
          <p:cNvPicPr/>
          <p:nvPr/>
        </p:nvPicPr>
        <p:blipFill>
          <a:blip r:embed="rId1"/>
          <a:stretch/>
        </p:blipFill>
        <p:spPr>
          <a:xfrm>
            <a:off x="990720" y="1987560"/>
            <a:ext cx="7848360" cy="48704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36" name="WordArt 1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eal Scientist Use Notebook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37" name="AutoShape 1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page1-big"/>
          <p:cNvPicPr/>
          <p:nvPr/>
        </p:nvPicPr>
        <p:blipFill>
          <a:blip r:embed="rId1"/>
          <a:stretch/>
        </p:blipFill>
        <p:spPr>
          <a:xfrm>
            <a:off x="762120" y="2286000"/>
            <a:ext cx="4297320" cy="45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29559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2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41" name="WordArt 13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eal Scientist Use Notebook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42" name="AutoShape 14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762120" y="2362320"/>
            <a:ext cx="609480" cy="4038480"/>
            <a:chOff x="762120" y="2362320"/>
            <a:chExt cx="609480" cy="4038480"/>
          </a:xfrm>
        </p:grpSpPr>
        <p:sp>
          <p:nvSpPr>
            <p:cNvPr id="144" name="AutoShape 16"/>
            <p:cNvSpPr/>
            <p:nvPr/>
          </p:nvSpPr>
          <p:spPr>
            <a:xfrm>
              <a:off x="762120" y="2362320"/>
              <a:ext cx="609480" cy="4038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038480"/>
                <a:gd name="textAreaBottom" fmla="*/ 4008960 h 4038480"/>
              </a:gdLst>
              <a:ahLst/>
              <a:rect l="textAreaLeft" t="textAreaTop" r="textAreaRight" b="textAreaBottom"/>
              <a:pathLst>
                <a:path w="21600" h="143052">
                  <a:moveTo>
                    <a:pt x="3600" y="0"/>
                  </a:moveTo>
                  <a:arcTo wR="3600" hR="3600" stAng="16200000" swAng="-5400000"/>
                  <a:lnTo>
                    <a:pt x="0" y="139452"/>
                  </a:lnTo>
                  <a:arcTo wR="3600" hR="3600" stAng="10800000" swAng="-5400000"/>
                  <a:lnTo>
                    <a:pt x="18000" y="143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92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838080" y="2438280"/>
              <a:ext cx="457200" cy="394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DIA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 OSSEY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Group 19"/>
          <p:cNvGrpSpPr/>
          <p:nvPr/>
        </p:nvGrpSpPr>
        <p:grpSpPr>
          <a:xfrm>
            <a:off x="8077320" y="2286000"/>
            <a:ext cx="609480" cy="4038480"/>
            <a:chOff x="8077320" y="2286000"/>
            <a:chExt cx="609480" cy="4038480"/>
          </a:xfrm>
        </p:grpSpPr>
        <p:sp>
          <p:nvSpPr>
            <p:cNvPr id="147" name="AutoShape 20"/>
            <p:cNvSpPr/>
            <p:nvPr/>
          </p:nvSpPr>
          <p:spPr>
            <a:xfrm>
              <a:off x="8077320" y="2286000"/>
              <a:ext cx="609480" cy="4038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038480"/>
                <a:gd name="textAreaBottom" fmla="*/ 4008960 h 4038480"/>
              </a:gdLst>
              <a:ahLst/>
              <a:rect l="textAreaLeft" t="textAreaTop" r="textAreaRight" b="textAreaBottom"/>
              <a:pathLst>
                <a:path w="21600" h="143052">
                  <a:moveTo>
                    <a:pt x="3600" y="0"/>
                  </a:moveTo>
                  <a:arcTo wR="3600" hR="3600" stAng="16200000" swAng="-5400000"/>
                  <a:lnTo>
                    <a:pt x="0" y="139452"/>
                  </a:lnTo>
                  <a:arcTo wR="3600" hR="3600" stAng="10800000" swAng="-5400000"/>
                  <a:lnTo>
                    <a:pt x="18000" y="143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92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8153280" y="2361960"/>
              <a:ext cx="457200" cy="394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LE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DIVINC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V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udent wor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This is the side that you can use to show me your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reativ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s is the “output” or product s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ight side is “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TRI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and contains onl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on given by Ms. Cloutier-Sim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hing else should be placed on the 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tebook is divided into TWO se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52" name="WordArt 7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Left Side-Right Side: WHICH SIDE?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tebook is divided into TWO se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3" descr="mso55677"/>
          <p:cNvPicPr/>
          <p:nvPr/>
        </p:nvPicPr>
        <p:blipFill>
          <a:blip r:embed="rId1"/>
          <a:stretch/>
        </p:blipFill>
        <p:spPr>
          <a:xfrm>
            <a:off x="4738680" y="1371600"/>
            <a:ext cx="4405320" cy="5486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8600" y="380880"/>
            <a:ext cx="4419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“lov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ork =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800600" y="380880"/>
            <a:ext cx="43434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ide is “restricted” to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ACHER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4724280" y="1447920"/>
            <a:ext cx="0" cy="5410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533520" y="0"/>
            <a:ext cx="8610480" cy="144792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0" y="1447920"/>
            <a:ext cx="4800600" cy="5410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SY01310_0000[1]"/>
          <p:cNvPicPr/>
          <p:nvPr/>
        </p:nvPicPr>
        <p:blipFill>
          <a:blip r:embed="rId3"/>
          <a:stretch/>
        </p:blipFill>
        <p:spPr>
          <a:xfrm rot="21000000">
            <a:off x="0" y="1523880"/>
            <a:ext cx="422280" cy="609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mso1D82"/>
          <p:cNvPicPr/>
          <p:nvPr/>
        </p:nvPicPr>
        <p:blipFill>
          <a:blip r:embed="rId4"/>
          <a:stretch/>
        </p:blipFill>
        <p:spPr>
          <a:xfrm>
            <a:off x="0" y="1447920"/>
            <a:ext cx="4724280" cy="541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Cj01993670000[1]"/>
          <p:cNvPicPr/>
          <p:nvPr/>
        </p:nvPicPr>
        <p:blipFill>
          <a:blip r:embed="rId5"/>
          <a:stretch/>
        </p:blipFill>
        <p:spPr>
          <a:xfrm>
            <a:off x="8226360" y="1523880"/>
            <a:ext cx="917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longs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is page you may includ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agrams, cartoons, drawings, poems, fold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tc.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et your CREATIVITY go wild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5638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VEN PAGES =2, 4, 6, 8….. YOU GOT IT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67" name="WordArt 9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LEFT SIDE: YOUR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04:15:51Z</dcterms:created>
  <dc:creator>FD</dc:creator>
  <dc:description/>
  <dc:language>en-US</dc:language>
  <cp:lastModifiedBy>Danielle</cp:lastModifiedBy>
  <dcterms:modified xsi:type="dcterms:W3CDTF">2014-08-28T19:18:22Z</dcterms:modified>
  <cp:revision>44</cp:revision>
  <dc:subject/>
  <dc:title> SCIENCE INTERACTIVE NOTEBOOK</dc:title>
</cp:coreProperties>
</file>